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BD3B5-752F-4342-8B0F-EB2D9F728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A8F6A-9F4A-4B21-B8F8-2CEF37BD6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ED768-AFF3-4858-AD42-78EC55B54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BBCFB-A1AF-4AFB-A436-D4EE47E10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273865-6458-408B-A46F-6B81FD7410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BA4C8-52F0-4E18-A092-2ADF85829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95D1C-1A34-41F0-9D61-5CBEFC540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9CF51-D56F-45D7-BDD0-A2206EAB1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F6204-5827-4C79-8A39-BE2C8E915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091E0-89A1-490D-B5EE-2519BB9EC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382E9-140A-4589-9AC8-2130E1117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47A54-0C94-43DE-B382-5508509E2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3A34C-5486-44C9-B15D-EB9A7A98D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759E2-1120-4A03-A0D3-BAC2AB923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3F139-CC0A-4ED5-A89A-E69180FA8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734C47-70E8-4FC2-95AF-2B79088211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285321-8F06-4685-832F-4FE729ACD0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A2BD9-B2AC-44EA-9BBC-C1E6BAAA0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247CD-9A11-4F1F-9AE6-43F319A7C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C9503-5EC0-4DB0-9CE2-2D51967E6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97F4D-8BDE-4FCB-B272-26887E0BA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47714-E960-4709-BDD8-B891170B4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FC6CE-8FB2-4D44-BB0B-C7541F485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85B22-14A4-43C7-BAAF-C07BA6A77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2851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lick to edit the title text format</a:t>
            </a:r>
            <a:endParaRPr b="0" lang="en-US" sz="4400" spc="-1" strike="noStrike">
              <a:solidFill>
                <a:srgbClr val="ffcc66"/>
              </a:solidFill>
              <a:latin typeface="Bodoni MT Black"/>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36947-4554-4527-847E-80DC67D86D1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2851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Bodoni MT Black"/>
              </a:rPr>
              <a:t>Click to edit the title text format</a:t>
            </a:r>
            <a:endParaRPr b="0" lang="en-US" sz="8000" spc="-1" strike="noStrike">
              <a:solidFill>
                <a:srgbClr val="ffcc66"/>
              </a:solidFill>
              <a:latin typeface="Bodoni MT Black"/>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ides prepared by Cyndi Chie and Sarah Frye</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770B0-1DBF-4FC4-8C0A-0017A8E4B68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96040" algn="ctr">
              <a:spcBef>
                <a:spcPts val="799"/>
              </a:spcBef>
              <a:buClr>
                <a:srgbClr val="00ffff"/>
              </a:buClr>
              <a:buSzPct val="6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43880" algn="ctr">
              <a:spcBef>
                <a:spcPts val="7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92080" algn="ctr">
              <a:spcBef>
                <a:spcPts val="799"/>
              </a:spcBef>
              <a:buClr>
                <a:srgbClr val="00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600200"/>
            <a:ext cx="7772400" cy="1447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cc66"/>
                </a:solidFill>
                <a:latin typeface="Bodoni MT Black"/>
              </a:rPr>
              <a:t>A Gift of Fire</a:t>
            </a:r>
            <a:br>
              <a:rPr sz="8000"/>
            </a:br>
            <a:r>
              <a:rPr b="0" lang="en-US" sz="2400" spc="-1" strike="noStrike">
                <a:solidFill>
                  <a:srgbClr val="ffcc66"/>
                </a:solidFill>
                <a:latin typeface="Bodoni MT Black"/>
              </a:rPr>
              <a:t>Third edition</a:t>
            </a:r>
            <a:br>
              <a:rPr sz="2400"/>
            </a:br>
            <a:r>
              <a:rPr b="0" lang="en-US" sz="4800" spc="-1" strike="noStrike">
                <a:solidFill>
                  <a:srgbClr val="ffcc66"/>
                </a:solidFill>
                <a:latin typeface="Bodoni MT Black"/>
              </a:rPr>
              <a:t>Sara Baase</a:t>
            </a:r>
            <a:endParaRPr b="0" lang="en-US" sz="4800" spc="-1" strike="noStrike">
              <a:solidFill>
                <a:srgbClr val="ffcc66"/>
              </a:solidFill>
              <a:latin typeface="Bodoni MT Black"/>
            </a:endParaRPr>
          </a:p>
        </p:txBody>
      </p:sp>
      <p:sp>
        <p:nvSpPr>
          <p:cNvPr id="89" name="PlaceHolder 2"/>
          <p:cNvSpPr>
            <a:spLocks noGrp="1"/>
          </p:cNvSpPr>
          <p:nvPr>
            <p:ph type="subTitle"/>
          </p:nvPr>
        </p:nvSpPr>
        <p:spPr>
          <a:xfrm>
            <a:off x="685800" y="3429000"/>
            <a:ext cx="7772400" cy="1752480"/>
          </a:xfrm>
          <a:prstGeom prst="rect">
            <a:avLst/>
          </a:prstGeom>
          <a:noFill/>
          <a:ln w="0">
            <a:noFill/>
          </a:ln>
        </p:spPr>
        <p:txBody>
          <a:bodyPr lIns="92160" rIns="92160" tIns="46080" bIns="4608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apter 4: Intellectual Propert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right Law and Significant Cases (cont.)</a:t>
            </a:r>
            <a:endParaRPr b="0" lang="en-US" sz="4000" spc="-1" strike="noStrike">
              <a:solidFill>
                <a:srgbClr val="ffcc66"/>
              </a:solidFill>
              <a:latin typeface="Bodoni MT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ificant Cases:</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y v. Universal City Studios (1984)</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reme Court decided that the makers of a device with legitimate uses should not be penalized because some people may use it to infringe on copyright</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reme Court decided copying movies for later viewing was fair us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guments against fair use</a:t>
            </a:r>
            <a:endParaRPr b="0" lang="en-US" sz="2400" spc="-1" strike="noStrike">
              <a:solidFill>
                <a:srgbClr val="ffffff"/>
              </a:solidFill>
              <a:latin typeface="Arial"/>
            </a:endParaRPr>
          </a:p>
          <a:p>
            <a:pPr lvl="2" marL="1143000" indent="-228600">
              <a:lnSpc>
                <a:spcPct val="80000"/>
              </a:lnSpc>
              <a:spcBef>
                <a:spcPts val="601"/>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ople copied the entire work</a:t>
            </a:r>
            <a:endParaRPr b="0" lang="en-US" sz="2400" spc="-1" strike="noStrike">
              <a:solidFill>
                <a:srgbClr val="ffffff"/>
              </a:solidFill>
              <a:latin typeface="Arial"/>
            </a:endParaRPr>
          </a:p>
          <a:p>
            <a:pPr lvl="2" marL="1143000" indent="-228600">
              <a:lnSpc>
                <a:spcPct val="80000"/>
              </a:lnSpc>
              <a:spcBef>
                <a:spcPts val="601"/>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ies are creative, not factu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right Law and Significant Cases (cont.)</a:t>
            </a:r>
            <a:endParaRPr b="0" lang="en-US" sz="4000" spc="-1" strike="noStrike">
              <a:solidFill>
                <a:srgbClr val="ffcc66"/>
              </a:solidFill>
              <a:latin typeface="Bodoni MT Black"/>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ificant Cases (cont.):</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y v. Universal City Studios (1984) (con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guments for fair use</a:t>
            </a:r>
            <a:endParaRPr b="0" lang="en-US" sz="2400" spc="-1" strike="noStrike">
              <a:solidFill>
                <a:srgbClr val="ffffff"/>
              </a:solidFill>
              <a:latin typeface="Arial"/>
            </a:endParaRPr>
          </a:p>
          <a:p>
            <a:pPr lvl="2" marL="1143000" indent="-228600">
              <a:lnSpc>
                <a:spcPct val="90000"/>
              </a:lnSpc>
              <a:spcBef>
                <a:spcPts val="601"/>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py was for private, noncommercial use and generally was not kept after viewing</a:t>
            </a:r>
            <a:endParaRPr b="0" lang="en-US" sz="2400" spc="-1" strike="noStrike">
              <a:solidFill>
                <a:srgbClr val="ffffff"/>
              </a:solidFill>
              <a:latin typeface="Arial"/>
            </a:endParaRPr>
          </a:p>
          <a:p>
            <a:pPr lvl="2" marL="1143000" indent="-228600">
              <a:lnSpc>
                <a:spcPct val="90000"/>
              </a:lnSpc>
              <a:spcBef>
                <a:spcPts val="601"/>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vie studios could not demonstrate that they suffered any harm</a:t>
            </a:r>
            <a:endParaRPr b="0" lang="en-US" sz="2400" spc="-1" strike="noStrike">
              <a:solidFill>
                <a:srgbClr val="ffffff"/>
              </a:solidFill>
              <a:latin typeface="Arial"/>
            </a:endParaRPr>
          </a:p>
          <a:p>
            <a:pPr lvl="2" marL="1143000" indent="-228600">
              <a:lnSpc>
                <a:spcPct val="90000"/>
              </a:lnSpc>
              <a:spcBef>
                <a:spcPts val="601"/>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udios had received a substantial fee for broadcasting movies on TV, and the fee depends on having a large audience who view for fre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right Law and Significant Cases (cont.)</a:t>
            </a:r>
            <a:endParaRPr b="0" lang="en-US" sz="4000" spc="-1" strike="noStrike">
              <a:solidFill>
                <a:srgbClr val="ffcc66"/>
              </a:solidFill>
              <a:latin typeface="Bodoni MT Black"/>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ificant Cases (cont.):</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erse engineering: game machines</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ga Enterprises Ltd. v. Accolade Inc. (1992)</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ari Games v. Nintendo (1992)</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y Computer Entertainment, Inc. v. Connectix Corporation (2000)</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rts ruled that reverse engineering does not violate copyright if the intention is to make new creative works (video games), not copy the original work (the game syst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right Law and Significant Cases (cont.)</a:t>
            </a:r>
            <a:endParaRPr b="0" lang="en-US" sz="4000" spc="-1" strike="noStrike">
              <a:solidFill>
                <a:srgbClr val="ffcc66"/>
              </a:solidFill>
              <a:latin typeface="Bodoni MT Black"/>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ificant Cases (cont.):</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ing music: the Napster case</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 the sharing of music via Napster fair use?</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pster's arguments for fair us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ony decision allowed for entertainment use to be considered fair us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not hurt industry sales because users sampled the music on Napster and bought the CD if they liked i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right Law and Significant Cases (cont.)</a:t>
            </a:r>
            <a:endParaRPr b="0" lang="en-US" sz="4000" spc="-1" strike="noStrike">
              <a:solidFill>
                <a:srgbClr val="ffcc66"/>
              </a:solidFill>
              <a:latin typeface="Bodoni MT Black"/>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ificant Cases (cont.):</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ing music: the Napster case (cont.)</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AA's (Recording Industry Association of America) arguments against fair us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al" meant very limited use, not trading with thousands of stranger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gs and music are creative works and users were copying whole song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imed Napster severely hurt sales</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rt ruled sharing music via copied MP3 files violated copyrig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right Law and Significant Cases (cont.)</a:t>
            </a:r>
            <a:endParaRPr b="0" lang="en-US" sz="4000" spc="-1" strike="noStrike">
              <a:solidFill>
                <a:srgbClr val="ffcc66"/>
              </a:solidFill>
              <a:latin typeface="Bodoni MT Black"/>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ificant Cases (cont.):</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ing music: the Napster case (cont.)</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 Napster responsible for the actions of its users?</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pster's arguments</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was the same as a search engine, which is protected under the DMCA</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did not store any of the MP3 files</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technology had substantial legitimate u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pyright Law and Significant Cases (cont.)</a:t>
            </a:r>
            <a:endParaRPr b="0" lang="en-US" sz="4400" spc="-1" strike="noStrike">
              <a:solidFill>
                <a:srgbClr val="ffcc66"/>
              </a:solidFill>
              <a:latin typeface="Bodoni MT Black"/>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ificant Cases (cont.):</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ing music: the Napster case (cont.)</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AA's argumen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nies are required to make an effort to prevent copyright violations and Napster did not take sufficient step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pster was not a device or new technology and the RIAA was not seeking to ban the technology</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rt ruled Napster liable because they had the right and ability to supervise the system, including copyright infringing activitie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right Law and Significant Cases (cont.)</a:t>
            </a:r>
            <a:endParaRPr b="0" lang="en-US" sz="4000" spc="-1" strike="noStrike">
              <a:solidFill>
                <a:srgbClr val="ffcc66"/>
              </a:solidFill>
              <a:latin typeface="Bodoni MT Black"/>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ificant Cases (cont.):</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haring: MGM v. Grokster</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kster, Gnutella, Morpheus, Kazaa, and others provided peer-to-peer (P2P) file sharing service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panies did not provide a central service or lists of song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2P file transfer programs have legitimate uses</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Courts ruled that P2P does have legitimate uses</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reme Court ruled that intellectual property owners could sue the companies for encouraging copyright infrin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right Law and Significant Cases</a:t>
            </a:r>
            <a:br>
              <a:rPr sz="4000"/>
            </a:br>
            <a:r>
              <a:rPr b="0" lang="en-US" sz="4000" spc="-1" strike="noStrike">
                <a:solidFill>
                  <a:srgbClr val="ffcc66"/>
                </a:solidFill>
                <a:latin typeface="Bodoni MT Black"/>
              </a:rPr>
              <a:t>Discussion Question</a:t>
            </a:r>
            <a:endParaRPr b="0" lang="en-US" sz="4000" spc="-1" strike="noStrike">
              <a:solidFill>
                <a:srgbClr val="ffcc66"/>
              </a:solidFill>
              <a:latin typeface="Bodoni MT Black"/>
            </a:endParaRPr>
          </a:p>
        </p:txBody>
      </p:sp>
      <p:sp>
        <p:nvSpPr>
          <p:cNvPr id="12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the impact would be on creative industries, such as music, movies and fiction novels, if copyright laws did not protect their intellectual proper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pying and Sharing</a:t>
            </a:r>
            <a:endParaRPr b="0" lang="en-US" sz="4400" spc="-1" strike="noStrike">
              <a:solidFill>
                <a:srgbClr val="ffcc66"/>
              </a:solidFill>
              <a:latin typeface="Bodoni MT Black"/>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s from the Content Industries:</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s from the software industri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iration dates within the softwar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gles (a device that must be plugged into a computer port)</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y protection that prevents copying</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ation or registration cod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ed court orders to shut down Internet bulletin boards and Web si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What We Will Cover</a:t>
            </a:r>
            <a:endParaRPr b="0" lang="en-US" sz="4400" spc="-1" strike="noStrike">
              <a:solidFill>
                <a:srgbClr val="ffcc66"/>
              </a:solidFill>
              <a:latin typeface="Bodoni MT Black"/>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llectual Property and Changing Technology</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yright Law and Significant Cases</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ying and Sharing</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rch Engines and Online Libraries</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Speech Issues</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 Software</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es for Software Develop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ing and Sharing (cont.)</a:t>
            </a:r>
            <a:endParaRPr b="0" lang="en-US" sz="4000" spc="-1" strike="noStrike">
              <a:solidFill>
                <a:srgbClr val="ffcc66"/>
              </a:solidFill>
              <a:latin typeface="Bodoni MT Black"/>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ses from the Content Industries (cont.):</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ning, suing and taxing</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 or delay technology via lawsuits </a:t>
            </a:r>
            <a:endParaRPr b="0" lang="en-US" sz="2400" spc="-1" strike="noStrike">
              <a:solidFill>
                <a:srgbClr val="ffffff"/>
              </a:solidFill>
              <a:latin typeface="Arial"/>
            </a:endParaRPr>
          </a:p>
          <a:p>
            <a:pPr lvl="2" marL="1143000" indent="-228600">
              <a:lnSpc>
                <a:spcPct val="80000"/>
              </a:lnSpc>
              <a:spcBef>
                <a:spcPts val="601"/>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D-recording devices</a:t>
            </a:r>
            <a:endParaRPr b="0" lang="en-US" sz="2400" spc="-1" strike="noStrike">
              <a:solidFill>
                <a:srgbClr val="ffffff"/>
              </a:solidFill>
              <a:latin typeface="Arial"/>
            </a:endParaRPr>
          </a:p>
          <a:p>
            <a:pPr lvl="2" marL="1143000" indent="-228600">
              <a:lnSpc>
                <a:spcPct val="80000"/>
              </a:lnSpc>
              <a:spcBef>
                <a:spcPts val="601"/>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Audio Tapes (DAT)</a:t>
            </a:r>
            <a:endParaRPr b="0" lang="en-US" sz="2400" spc="-1" strike="noStrike">
              <a:solidFill>
                <a:srgbClr val="ffffff"/>
              </a:solidFill>
              <a:latin typeface="Arial"/>
            </a:endParaRPr>
          </a:p>
          <a:p>
            <a:pPr lvl="2" marL="1143000" indent="-228600">
              <a:lnSpc>
                <a:spcPct val="80000"/>
              </a:lnSpc>
              <a:spcBef>
                <a:spcPts val="601"/>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VD players</a:t>
            </a:r>
            <a:endParaRPr b="0" lang="en-US" sz="2400" spc="-1" strike="noStrike">
              <a:solidFill>
                <a:srgbClr val="ffffff"/>
              </a:solidFill>
              <a:latin typeface="Arial"/>
            </a:endParaRPr>
          </a:p>
          <a:p>
            <a:pPr lvl="2" marL="1143000" indent="-228600">
              <a:lnSpc>
                <a:spcPct val="80000"/>
              </a:lnSpc>
              <a:spcBef>
                <a:spcPts val="601"/>
              </a:spcBef>
              <a:buClr>
                <a:srgbClr val="00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able MP3 player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 that new technology include copyright protection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x digital media to compensate the industry for expected los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ing and Sharing (cont.)</a:t>
            </a:r>
            <a:endParaRPr b="0" lang="en-US" sz="4000" spc="-1" strike="noStrike">
              <a:solidFill>
                <a:srgbClr val="ffcc66"/>
              </a:solidFill>
              <a:latin typeface="Bodoni MT Black"/>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Rights Management :</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on of techniques that control uses of intellectual property in digital formats</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s hardware and software schemes using encryption</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ducer of a file has flexibility to specify what a user may do with it</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e, Microsoft and Sony all use different schemes of D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ing and Sharing (cont.)</a:t>
            </a:r>
            <a:endParaRPr b="0" lang="en-US" sz="4000" spc="-1" strike="noStrike">
              <a:solidFill>
                <a:srgbClr val="ffcc66"/>
              </a:solidFill>
              <a:latin typeface="Bodoni MT Black"/>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MCA vs. Fair Use, Freedom of Speech, and Innovation:</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suits have been filed to ban new technologies</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 courts have banned technologies such as DeCSS even though it has legitimate uses, while courts in other countries have not.</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sters published the code as part of creative works (in haiku, songs, short movies, a computer game and art)</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 courts eventually allowed publishing of DeCSS, but prohibited manufacturers of DVD players from including it in their produc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ing and Sharing (cont.)</a:t>
            </a:r>
            <a:endParaRPr b="0" lang="en-US" sz="4000" spc="-1" strike="noStrike">
              <a:solidFill>
                <a:srgbClr val="ffcc66"/>
              </a:solidFill>
              <a:latin typeface="Bodoni MT Black"/>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deo Sharing: Conflict and Solutions:</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stry issues "take down" notices per the DMCA</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long as sites like YouTube and MySpace comply with take down notices they are not in violation</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 down notices may violate fair use, some have been issued against small portions of video being used for educational purpo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ing and Sharing (cont.)</a:t>
            </a:r>
            <a:endParaRPr b="0" lang="en-US" sz="4000" spc="-1" strike="noStrike">
              <a:solidFill>
                <a:srgbClr val="ffcc66"/>
              </a:solidFill>
              <a:latin typeface="Bodoni MT Black"/>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Business Models and Constructive Solutions:</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ations set up to collect and distribute royalty fees (e.g. the Copyright Clearance Center), users don't have to search out individual copyright holders</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es such as iTunes and the new Napster provide legal means for obtaining inexpensive music and generate revenue for the industry and artists</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enue sharing allows content-sharing sites to allow the posting of content and share their ad revenues with content owners in compens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ing and Sharing (cont.)</a:t>
            </a:r>
            <a:endParaRPr b="0" lang="en-US" sz="4000" spc="-1" strike="noStrike">
              <a:solidFill>
                <a:srgbClr val="ffcc66"/>
              </a:solidFill>
              <a:latin typeface="Bodoni MT Black"/>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Business Models and Constructive Solutions (cont.):</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dustry imbeds advertising in files that it then posts to the P2P sites, the advertiser gets its message out and the industry gets its fees</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n fiction is generally not seen as a threat, the writers are also the customers for the original wor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ing and Sharing (cont.)</a:t>
            </a:r>
            <a:endParaRPr b="0" lang="en-US" sz="4000" spc="-1" strike="noStrike">
              <a:solidFill>
                <a:srgbClr val="ffcc66"/>
              </a:solidFill>
              <a:latin typeface="Bodoni MT Black"/>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ical Arguments About Copying:</a:t>
            </a:r>
            <a:endParaRPr b="0" lang="en-US" sz="2800" spc="-1" strike="noStrike">
              <a:solidFill>
                <a:srgbClr val="ffffff"/>
              </a:solidFill>
              <a:latin typeface="Arial"/>
            </a:endParaRPr>
          </a:p>
          <a:p>
            <a:pPr marL="318960" indent="-31896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like physical property, copying or distributing a song, video, or computer program does not decrease the use or enjoyment by another person</a:t>
            </a:r>
            <a:endParaRPr b="0" lang="en-US" sz="2800" spc="-1" strike="noStrike">
              <a:solidFill>
                <a:srgbClr val="ffffff"/>
              </a:solidFill>
              <a:latin typeface="Arial"/>
            </a:endParaRPr>
          </a:p>
          <a:p>
            <a:pPr marL="318960" indent="-31896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ying can decrease the economic value of creative work produced for sale</a:t>
            </a:r>
            <a:endParaRPr b="0" lang="en-US" sz="2800" spc="-1" strike="noStrike">
              <a:solidFill>
                <a:srgbClr val="ffffff"/>
              </a:solidFill>
              <a:latin typeface="Arial"/>
            </a:endParaRPr>
          </a:p>
          <a:p>
            <a:pPr marL="318960" indent="-31896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air use guidelines are useful ethical guidelines</a:t>
            </a:r>
            <a:endParaRPr b="0" lang="en-US" sz="2800" spc="-1" strike="noStrike">
              <a:solidFill>
                <a:srgbClr val="ffffff"/>
              </a:solidFill>
              <a:latin typeface="Arial"/>
            </a:endParaRPr>
          </a:p>
          <a:p>
            <a:pPr marL="318960" indent="-31896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arguments for and against unauthorized copy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ing and Sharing (cont.)</a:t>
            </a:r>
            <a:endParaRPr b="0" lang="en-US" sz="4000" spc="-1" strike="noStrike">
              <a:solidFill>
                <a:srgbClr val="ffcc66"/>
              </a:solidFill>
              <a:latin typeface="Bodoni MT Black"/>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tional Piracy:</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countries do not recognize or protect intellectual property</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ries that have high piracy rates often do not have a significant software industry</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countries that have a high amount of piracy are exporting the pirated copies to countries with strict copyright laws</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onomic sanctions often penalize legitimate businesses, not those they seek to targ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ing and Sharing</a:t>
            </a:r>
            <a:br>
              <a:rPr sz="4000"/>
            </a:br>
            <a:r>
              <a:rPr b="0" lang="en-US" sz="4000" spc="-1" strike="noStrike">
                <a:solidFill>
                  <a:srgbClr val="ffcc66"/>
                </a:solidFill>
                <a:latin typeface="Bodoni MT Black"/>
              </a:rPr>
              <a:t>Discussion Question</a:t>
            </a:r>
            <a:endParaRPr b="0" lang="en-US" sz="4000" spc="-1" strike="noStrike">
              <a:solidFill>
                <a:srgbClr val="ffcc66"/>
              </a:solidFill>
              <a:latin typeface="Bodoni MT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have argued that copyright lawsuits have been used to stifle innovation, do you agree?  Why or why n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Search Engines and Online Libraries</a:t>
            </a:r>
            <a:endParaRPr b="0" lang="en-US" sz="4000" spc="-1" strike="noStrike">
              <a:solidFill>
                <a:srgbClr val="ffcc66"/>
              </a:solidFill>
              <a:latin typeface="Bodoni MT Black"/>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rch Engines</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ching and displaying small excerpts is fair use</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ng and displaying thumbnail images is fair use</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rt ordered Google to remove links to pages that infringe copyright; Google is appeal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Intellectual Property and Changing Technology</a:t>
            </a:r>
            <a:endParaRPr b="0" lang="en-US" sz="4000" spc="-1" strike="noStrike">
              <a:solidFill>
                <a:srgbClr val="ffcc66"/>
              </a:solidFill>
              <a:latin typeface="Bodoni MT Black"/>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Intellectual Property?</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angible creative work, not its particular physical form</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ue of intelligence and artistic work comes from creativity, ideas, research, skills, labor, non-material efforts and attributes the creator provides</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ed by copyright and patent l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Search Engines and Online Libraries</a:t>
            </a:r>
            <a:endParaRPr b="0" lang="en-US" sz="4000" spc="-1" strike="noStrike">
              <a:solidFill>
                <a:srgbClr val="ffcc66"/>
              </a:solidFill>
              <a:latin typeface="Bodoni MT Black"/>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ks Onlin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ject Guttenberg digitizes books in the public domai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scanned millions of public domain books in University of California's librar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gle has scanned millions of books that are in the public domain and that are not; they display only excerpts from those still copyrighted</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court rulings favor search engines and information access; some favor content produc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Free-Speech Issues</a:t>
            </a:r>
            <a:endParaRPr b="0" lang="en-US" sz="4400" spc="-1" strike="noStrike">
              <a:solidFill>
                <a:srgbClr val="ffcc66"/>
              </a:solidFill>
              <a:latin typeface="Bodoni MT Black"/>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main Names:</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main names may be used to criticize or protest (e.g. XYZIsJunk.org)</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nies sue under trademark violation, but most cases dismissed</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companies buy numerous domain names containing their name so others cannot use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Free-Speech Issues</a:t>
            </a:r>
            <a:endParaRPr b="0" lang="en-US" sz="4400" spc="-1" strike="noStrike">
              <a:solidFill>
                <a:srgbClr val="ffcc66"/>
              </a:solidFill>
              <a:latin typeface="Bodoni MT Black"/>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ing Documents for Criticism:</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s that are copyrighted and trade secrets have been posted as a form of criticism</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ations have sued to have the documents removed from the Web</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me cases courts have ruled that it is a copyright violation and the documents must be removed</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ne judgment against the Church of Scientology, the court ruled that the church’s primary motivation was "to stifle criticism of Scientology in general and to harass its crit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Free Software</a:t>
            </a:r>
            <a:endParaRPr b="0" lang="en-US" sz="4400" spc="-1" strike="noStrike">
              <a:solidFill>
                <a:srgbClr val="ffcc66"/>
              </a:solidFill>
              <a:latin typeface="Bodoni MT Black"/>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software - idea, an ethic, advocated and supported by large, loose-knit group of computer programmers who allow people to copy, use, and modify their software</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means freedom of use, not necessarily lack of cost</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source - software distributed or made public in source code (readable and modifiable)</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rietary software - (commercial) sold in object code (obscure, not modifiable) (E.g.: Microsoft Offi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Free Software</a:t>
            </a:r>
            <a:endParaRPr b="0" lang="en-US" sz="4400" spc="-1" strike="noStrike">
              <a:solidFill>
                <a:srgbClr val="ffcc66"/>
              </a:solidFill>
              <a:latin typeface="Bodoni MT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All Software Be Free?</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uld there be sufficient incentives to produce the huge quantity of consumer software available now?</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uld the current funding methods for free software be sufficient to support all software development?</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software be covered under copyright law?</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pts such as copyleft and the GNU Public License provide alternatives to proprietary software within today's current legal frame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Issues for Software Developers</a:t>
            </a:r>
            <a:endParaRPr b="0" lang="en-US" sz="4000" spc="-1" strike="noStrike">
              <a:solidFill>
                <a:srgbClr val="ffcc66"/>
              </a:solidFill>
              <a:latin typeface="Bodoni MT Black"/>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ents for Software?</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ents protect inventions of new things or processes</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upreme Court said that software could not be patented; however a machine that included software could</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ents are not supposed to be given for things that are obvious or are already in common use</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tent Office has made mistak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Issues for Software Developers (cont.)</a:t>
            </a:r>
            <a:endParaRPr b="0" lang="en-US" sz="4000" spc="-1" strike="noStrike">
              <a:solidFill>
                <a:srgbClr val="ffcc66"/>
              </a:solidFill>
              <a:latin typeface="Bodoni MT Black"/>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ents on Web Technologies:</a:t>
            </a:r>
            <a:endParaRPr b="0" lang="en-US" sz="2400" spc="-1" strike="noStrike">
              <a:solidFill>
                <a:srgbClr val="ffffff"/>
              </a:solidFill>
              <a:latin typeface="Arial"/>
            </a:endParaRPr>
          </a:p>
          <a:p>
            <a:pPr marL="335880" indent="-3358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azon agreed to pay IBM who holds patents for online catalogs and targeted advertising</a:t>
            </a:r>
            <a:endParaRPr b="0" lang="en-US" sz="2400" spc="-1" strike="noStrike">
              <a:solidFill>
                <a:srgbClr val="ffffff"/>
              </a:solidFill>
              <a:latin typeface="Arial"/>
            </a:endParaRPr>
          </a:p>
          <a:p>
            <a:pPr marL="335880" indent="-3358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was fined $1.5 billion for violating MP3 patents.  The decision was voided; the case continues.</a:t>
            </a:r>
            <a:endParaRPr b="0" lang="en-US" sz="2400" spc="-1" strike="noStrike">
              <a:solidFill>
                <a:srgbClr val="ffffff"/>
              </a:solidFill>
              <a:latin typeface="Arial"/>
            </a:endParaRPr>
          </a:p>
          <a:p>
            <a:pPr marL="335880" indent="-3358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iendster applied for a patent on its social-networking Web techniques.  While the patent was pending, sites such as MySpace sprang up. Friendster's patent was granted and it may now charge licensing fees to businesses using the technolog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Intellectual Property and Changing Technology (cont.)</a:t>
            </a:r>
            <a:endParaRPr b="0" lang="en-US" sz="4000" spc="-1" strike="noStrike">
              <a:solidFill>
                <a:srgbClr val="ffcc66"/>
              </a:solidFill>
              <a:latin typeface="Bodoni MT Black"/>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Intellectual Property? (cont.)</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right holders have exclusive righ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make cop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oduce derivative works, such as translations into other languages or movies based on book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istribute cop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erform the work in public (e.g. music, play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isplay the work in public (e.g. artwork, movies, computer games, video on a Web si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Intellectual Property and Changing Technology (cont.)</a:t>
            </a:r>
            <a:endParaRPr b="0" lang="en-US" sz="4000" spc="-1" strike="noStrike">
              <a:solidFill>
                <a:srgbClr val="ffcc66"/>
              </a:solidFill>
              <a:latin typeface="Bodoni MT Black"/>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llenges of New Technology:</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technology and the internet has made copyright infringement easier and cheaper</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mpression technologies have made copying large files (e.g. graphics, video and audio files) feasible</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tools allow us to modify graphics, video and audio files to make derivative works</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nners allow us to change the media of a copyrighted work, converting printed text, photos, and artwork to electronic fo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Intellectual Property and Changing Technology</a:t>
            </a:r>
            <a:br>
              <a:rPr sz="4000"/>
            </a:br>
            <a:r>
              <a:rPr b="0" lang="en-US" sz="4000" spc="-1" strike="noStrike">
                <a:solidFill>
                  <a:srgbClr val="ffcc66"/>
                </a:solidFill>
                <a:latin typeface="Bodoni MT Black"/>
              </a:rPr>
              <a:t>Discussion Questions</a:t>
            </a:r>
            <a:endParaRPr b="0" lang="en-US" sz="4000" spc="-1" strike="noStrike">
              <a:solidFill>
                <a:srgbClr val="ffcc66"/>
              </a:solidFill>
              <a:latin typeface="Bodoni MT Black"/>
            </a:endParaRPr>
          </a:p>
        </p:txBody>
      </p:sp>
      <p:sp>
        <p:nvSpPr>
          <p:cNvPr id="9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intellectual property like physical property?</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intellectual property different than physical property?</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agree with the idea that someone can "own" intellectual proper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right Law and Significant Cases</a:t>
            </a:r>
            <a:endParaRPr b="0" lang="en-US" sz="4000" spc="-1" strike="noStrike">
              <a:solidFill>
                <a:srgbClr val="ffcc66"/>
              </a:solidFill>
              <a:latin typeface="Bodoni MT Black"/>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it of history:</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90 first copyright law passed</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09 Copyright Act of 1909 defined an unauthorized copy as a form that could be seen and read visually</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76 and 1980 copyright law revised to include software and databases that exhibit "authorship" (original expression of ideas), included the "Fair Use Doctrine"</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2 high-volume copying became a felony</a:t>
            </a:r>
            <a:endParaRPr b="0" lang="en-US" sz="2400" spc="-1" strike="noStrike">
              <a:solidFill>
                <a:srgbClr val="ffffff"/>
              </a:solidFill>
              <a:latin typeface="Arial"/>
            </a:endParaRPr>
          </a:p>
          <a:p>
            <a:pPr marL="343080" indent="-343080">
              <a:lnSpc>
                <a:spcPct val="9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2 making multiple copies for commercial advantage and private gain became a felon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right Law and Significant Cases (cont.)</a:t>
            </a:r>
            <a:endParaRPr b="0" lang="en-US" sz="4000" spc="-1" strike="noStrike">
              <a:solidFill>
                <a:srgbClr val="ffcc66"/>
              </a:solidFill>
              <a:latin typeface="Bodoni MT Black"/>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it of History (cont.):</a:t>
            </a:r>
            <a:endParaRPr b="0" lang="en-US" sz="2400" spc="-1" strike="noStrike">
              <a:solidFill>
                <a:srgbClr val="ffffff"/>
              </a:solidFill>
              <a:latin typeface="Arial"/>
            </a:endParaRPr>
          </a:p>
          <a:p>
            <a:pPr marL="339480" indent="-3394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7 No Electronic Theft Act made it a felony to willfully infringe copyright by reproducing or distributing one or more copies of copyrighted work with a total value of more than $1,000 within a six-month period </a:t>
            </a:r>
            <a:endParaRPr b="0" lang="en-US" sz="2400" spc="-1" strike="noStrike">
              <a:solidFill>
                <a:srgbClr val="ffffff"/>
              </a:solidFill>
              <a:latin typeface="Arial"/>
            </a:endParaRPr>
          </a:p>
          <a:p>
            <a:pPr marL="339480" indent="-3394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8 Digital Millennium Copyright Act (DMCA) prohibits making, distributing or using tools to circumvent technological copyright protection systems and included protection from some copyright lawsuits for Web sites where users post material</a:t>
            </a:r>
            <a:endParaRPr b="0" lang="en-US" sz="2400" spc="-1" strike="noStrike">
              <a:solidFill>
                <a:srgbClr val="ffffff"/>
              </a:solidFill>
              <a:latin typeface="Arial"/>
            </a:endParaRPr>
          </a:p>
          <a:p>
            <a:pPr marL="339480" indent="-3394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5 Congress made it a felony to record a movie in a movie thea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pyright Law and Significant Cases (cont.)</a:t>
            </a:r>
            <a:endParaRPr b="0" lang="en-US" sz="4000" spc="-1" strike="noStrike">
              <a:solidFill>
                <a:srgbClr val="ffcc66"/>
              </a:solidFill>
              <a:latin typeface="Bodoni MT Black"/>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r Use Doctrine:</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 factors considered</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 and nature of use – commercial (less likely) or non-profit purpose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e of the copyrighted work</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significance or portion used</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 of use on potential market or value of the copyright work (will it reduce sales of work?)</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ingle factor alone determines</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ll factors given equal weight, varies by circumsta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9T20:42:23Z</dcterms:created>
  <dc:creator> </dc:creator>
  <dc:description/>
  <dc:language>en-US</dc:language>
  <cp:lastModifiedBy>Sara</cp:lastModifiedBy>
  <dcterms:modified xsi:type="dcterms:W3CDTF">2007-11-25T02:52:31Z</dcterms:modified>
  <cp:revision>67</cp:revision>
  <dc:subject/>
  <dc:title>         Gift of Fir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721033</vt:lpwstr>
  </property>
</Properties>
</file>